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F40-D672-465C-9786-D36F6B0D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47B-AB60-4090-BE14-2217B9A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5E7-10C1-4D62-AA8E-77809191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D55-83A1-45EB-9896-6891B7A6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1BC5-3492-42E5-9731-5FE28FD5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5434-24E2-44A8-91DA-B3D258CB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DE50-E529-4AD9-BC99-99D3E0D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A270-1B2B-445B-8875-9B616DB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1B57-0FDA-4F99-9739-C124F5F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D035-F0F4-477F-AB1B-405865E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C076-A59B-4F15-B904-A06F551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997-1DB3-43BA-8619-EE097E4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0FE0-B6A6-42A5-8A37-1BD8FE7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438-9F69-4FE2-874B-A4BC9E3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2CB2-D964-4842-BA8D-D7AA527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E61-ED82-4EDF-B060-E495A8E6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0B1F-612F-47A9-9E62-9D2CD98C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FF9A-FB36-48AC-A4DB-2EE9CC62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36E4-43D1-44E2-9D8D-D59C6EE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671A-0124-4515-B443-F0C54064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A423-EAF5-4C2E-AC8B-2914C1C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28AC5-A724-4319-84C7-AA8ED004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C51-EDA5-438D-BC27-6DF5289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25D2-70AD-401F-9E87-0F72BE65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8746-FC5A-47A3-9F04-E56B11F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1D1E-9A9D-493E-822F-892E8D0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C727-9CE4-45D0-A0CF-B257D04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8E8A-4CC7-4BE1-85A3-513EF0A0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07F4-6FE2-416E-8088-294F057A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0AC6-FA73-4EAA-B162-3D178703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4E75-1DC2-44BD-A643-E8BF0803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2605-5B41-450C-B291-4C61641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4A25-8C4C-4CD8-9BAB-7247238E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9E9-178B-474F-A71F-9A01D7D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245E7-4BEC-4670-930D-253BBB83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C92C-4EEF-4A34-9D03-3F4E697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B3AB-5FAC-47E1-BE63-A02C4B15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D64F-4B57-4799-A691-FDE0749B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4A76-9D00-4B96-97CF-957F510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AAC4-A90D-4003-843B-A5FC015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471E-A7C1-4B79-93F9-8F332ADA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58E7-C85B-4CC8-B8B1-BC328618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1020-8E92-4E5C-BA6D-209C2346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C63-2F0B-47A6-A6B6-1D012F2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9C0-F41E-4C51-827B-04CF073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D72-9B56-435B-94B0-5019CC07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3AD-923D-4A6D-A494-5EE0BD4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173-189F-482E-8F25-EA31800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23BA8-1F72-4F77-9A52-5FAC255C8113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1F8E4-8102-4EE6-B09F-8C6CC81966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20000-B579-40C9-8269-D110FB6A8A9E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C1ABC-4732-4834-8206-EC5399B6E5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B4EC9-F482-4A49-A3E6-3A30B4C18C0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E1FA4-99D4-47E0-99AC-62D2ED9E2E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09F13-EEA0-4865-9CC6-E0AB87B58103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0866C-5AE1-4F7C-B476-9D6A711E99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psrenenvironmentalscience.wikispaces.com/" TargetMode="External"/><Relationship Id="rId3" Type="http://schemas.openxmlformats.org/officeDocument/2006/relationships/hyperlink" Target="http://dpsrenenvironmentalscience.wikispace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rmelda Pol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naissance High 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 8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T-7240  was awesome! I learned so much about social media and its educational uses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ki sp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mo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idesh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g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I plan to use what I learned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’d like to share one way I’ll be using the information I learned in my environmental science clas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lcome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dpsrenenvironmentalscience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0:44Z</dcterms:created>
  <dc:creator>College of Education</dc:creator>
  <dc:description/>
  <dc:language>en-US</dc:language>
  <cp:lastModifiedBy>College of Education</cp:lastModifiedBy>
  <dcterms:modified xsi:type="dcterms:W3CDTF">2009-08-08T14:38:05Z</dcterms:modified>
  <cp:revision>1</cp:revision>
  <dc:subject/>
  <dc:title>My Summer Learning Experience in IT 7240</dc:title>
</cp:coreProperties>
</file>